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875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87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7480" y="-36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04640" y="655200"/>
            <a:ext cx="4375080" cy="32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31168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7480" y="831168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DC0615-DE61-46D8-84C3-A4618A578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DEF321-73CA-485B-8284-E78E9127C2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618595-84B2-4070-9C42-59209F6865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E8105E-8ABE-491F-B907-7E970E604A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671AEE-67BA-41AF-902C-2E8D0713B2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868E22-CA95-46AE-94B3-D6775B3512F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25E082-714E-4D4B-AEF9-8E823DBDC8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D08274-52F1-464D-BE87-8A09275048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174-8D76-4BDC-B5C8-62CBF989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8A3-1F9E-40CA-B552-1BE586E8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3A3-287F-42B9-B4AC-ED4A58C5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1D7-58AB-46A7-86FD-0E94E08E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10E5-B49F-4D57-A073-01289F97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3C51-EC8F-4342-A62A-EA0DA309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CE9B-BF75-4F26-922D-02FAE06B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7EF-279A-4327-B90F-7F41A188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D339-5E6B-42E0-AFE0-C03D621D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8A87-ACA1-4015-AB5E-0247DE99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222-AB38-4803-8ECB-C2FD8100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623-8112-464B-92C2-2D9B71CE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8D09-DD43-4125-90CB-3D311D8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FC6D-3010-4BC0-8FBF-19CC69A1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C3EB-1B0B-447C-8265-8EEF6DB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D896-C27A-41E7-8C2A-A2BA9CB7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AD4D-6852-42DD-9932-9E3CE7DE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924-68B9-4123-83EF-584F5376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991-90F4-469F-BAE6-4D288BF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30D-A9F5-4931-BC46-EAEF620E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8F9-43E1-472B-B9A6-901D2819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2DE-7955-4866-A51D-2941F40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A0B-D18B-4D77-8DF2-44E9E02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996-79A9-4C76-ACA5-53B1DC0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A3B-C75E-4624-8363-1C5195903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7" name="Object 10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Object 9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CB48-848E-429D-A095-DBA090A65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7200" y="1523880"/>
            <a:ext cx="880452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8600" y="16002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Vulnerability Enumeration (CV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latform Enumeration (CP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Remediation Enumeration (CR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Remediation Information (ER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Control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Policy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medi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1600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6858000" y="294948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86000" y="2514600"/>
            <a:ext cx="4495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286000" y="2754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343400" y="4648320"/>
            <a:ext cx="15238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6324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971800" y="4648320"/>
            <a:ext cx="1295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41148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48120" y="4800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3880" y="4648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1722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9625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248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20040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40080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76201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52388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Ticketing System (Reme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3434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mediation Tool (S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763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895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19051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2286000" y="32004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al Remediation Policy Edi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isk Management Process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943600" y="4648320"/>
            <a:ext cx="16002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943600" y="4791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Distribution (Patch To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56386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4864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64832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600200" y="2949480"/>
            <a:ext cx="76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781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9588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USutil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29718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add, Dsmod, Dsrm, Dsmove, LDIF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4491000" y="58672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dit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LS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362320" y="152280"/>
            <a:ext cx="4800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mediati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 rot="16200000">
            <a:off x="4191120" y="1371240"/>
            <a:ext cx="152388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200400" y="3059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76212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6212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762120" y="3581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Reporting on tas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41148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486400" y="4186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Registry Settings equivalent to using 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4800600" y="4800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File Permissions equivalent to using CACLS.ex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14800" y="5410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Policy Changes equivalent to using secedit.exe command l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762120" y="22860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RE, Parameters, and ID Tasking or XML file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3733920" y="506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7"/>
          <p:cNvSpPr/>
          <p:nvPr/>
        </p:nvSpPr>
        <p:spPr>
          <a:xfrm>
            <a:off x="3733920" y="40384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3352680" y="5678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1"/>
          <p:cNvSpPr/>
          <p:nvPr/>
        </p:nvSpPr>
        <p:spPr>
          <a:xfrm>
            <a:off x="3352680" y="403848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n 25"/>
          <p:cNvSpPr/>
          <p:nvPr/>
        </p:nvSpPr>
        <p:spPr>
          <a:xfrm>
            <a:off x="3657600" y="2971800"/>
            <a:ext cx="121932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ge Polic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5238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676520" y="17524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76520" y="4724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/ERI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n 23"/>
          <p:cNvSpPr/>
          <p:nvPr/>
        </p:nvSpPr>
        <p:spPr>
          <a:xfrm>
            <a:off x="3657600" y="167652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n 24"/>
          <p:cNvSpPr/>
          <p:nvPr/>
        </p:nvSpPr>
        <p:spPr>
          <a:xfrm>
            <a:off x="3657600" y="4648320"/>
            <a:ext cx="121932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29"/>
          <p:cNvSpPr/>
          <p:nvPr/>
        </p:nvSpPr>
        <p:spPr>
          <a:xfrm rot="16200000">
            <a:off x="2590920" y="1828800"/>
            <a:ext cx="1218960" cy="914400"/>
          </a:xfrm>
          <a:prstGeom prst="downArrow">
            <a:avLst>
              <a:gd name="adj1" fmla="val 78389"/>
              <a:gd name="adj2" fmla="val 2037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New Poli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wn Arrow 30"/>
          <p:cNvSpPr/>
          <p:nvPr/>
        </p:nvSpPr>
        <p:spPr>
          <a:xfrm rot="16200000">
            <a:off x="2629080" y="4762440"/>
            <a:ext cx="1218960" cy="990720"/>
          </a:xfrm>
          <a:prstGeom prst="downArrow">
            <a:avLst>
              <a:gd name="adj1" fmla="val 78611"/>
              <a:gd name="adj2" fmla="val 2000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Known Remedi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xplosion 1 32"/>
          <p:cNvSpPr/>
          <p:nvPr/>
        </p:nvSpPr>
        <p:spPr>
          <a:xfrm>
            <a:off x="5638680" y="1600200"/>
            <a:ext cx="1981440" cy="160020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 Policy Ed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n 33"/>
          <p:cNvSpPr/>
          <p:nvPr/>
        </p:nvSpPr>
        <p:spPr>
          <a:xfrm>
            <a:off x="55627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 &amp; Groups by To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-Right Arrow 35"/>
          <p:cNvSpPr/>
          <p:nvPr/>
        </p:nvSpPr>
        <p:spPr>
          <a:xfrm rot="17211600">
            <a:off x="5673600" y="3171600"/>
            <a:ext cx="1524240" cy="685800"/>
          </a:xfrm>
          <a:prstGeom prst="leftRightArrow">
            <a:avLst>
              <a:gd name="adj1" fmla="val 50000"/>
              <a:gd name="adj2" fmla="val 447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Policies to each tool for  Devices &amp;Device Grou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eft-Right Arrow 36"/>
          <p:cNvSpPr/>
          <p:nvPr/>
        </p:nvSpPr>
        <p:spPr>
          <a:xfrm rot="382800">
            <a:off x="4648320" y="1981080"/>
            <a:ext cx="1447560" cy="609840"/>
          </a:xfrm>
          <a:prstGeom prst="leftRightArrow">
            <a:avLst>
              <a:gd name="adj1" fmla="val 50000"/>
              <a:gd name="adj2" fmla="val 58023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and Sav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-Right Arrow 37"/>
          <p:cNvSpPr/>
          <p:nvPr/>
        </p:nvSpPr>
        <p:spPr>
          <a:xfrm rot="18663600">
            <a:off x="4000320" y="3465360"/>
            <a:ext cx="2714400" cy="438120"/>
          </a:xfrm>
          <a:prstGeom prst="leftRightArrow">
            <a:avLst>
              <a:gd name="adj1" fmla="val 50000"/>
              <a:gd name="adj2" fmla="val 5340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Create, &amp; Store Remedi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371600" y="1828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371600" y="2514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371600" y="4800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5486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6520" y="33526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371600" y="34290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371600" y="4114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2743200" y="3200400"/>
            <a:ext cx="990720" cy="1371600"/>
          </a:xfrm>
          <a:prstGeom prst="leftArrow">
            <a:avLst>
              <a:gd name="adj1" fmla="val 71602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Locally Created Remediations &amp;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37"/>
          <p:cNvSpPr/>
          <p:nvPr/>
        </p:nvSpPr>
        <p:spPr>
          <a:xfrm rot="20280000">
            <a:off x="4114440" y="2743200"/>
            <a:ext cx="2176560" cy="438120"/>
          </a:xfrm>
          <a:prstGeom prst="leftRightArrow">
            <a:avLst>
              <a:gd name="adj1" fmla="val 50000"/>
              <a:gd name="adj2" fmla="val 4282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, Edit, Create, &amp; Store Mitigations and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n 33"/>
          <p:cNvSpPr/>
          <p:nvPr/>
        </p:nvSpPr>
        <p:spPr>
          <a:xfrm>
            <a:off x="71629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ool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35"/>
          <p:cNvSpPr/>
          <p:nvPr/>
        </p:nvSpPr>
        <p:spPr>
          <a:xfrm rot="3470400">
            <a:off x="6734160" y="3159000"/>
            <a:ext cx="1828800" cy="691920"/>
          </a:xfrm>
          <a:prstGeom prst="leftRightArrow">
            <a:avLst>
              <a:gd name="adj1" fmla="val 50000"/>
              <a:gd name="adj2" fmla="val 5326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dentify which remediations/mitigations each tool can impl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049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ecute Policy-Based Remedi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7238880" y="3581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229600" y="3657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229600" y="4343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238880" y="4800600"/>
            <a:ext cx="1143000" cy="1066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us Par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29600" y="55627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97180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12408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7339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n 26"/>
          <p:cNvSpPr/>
          <p:nvPr/>
        </p:nvSpPr>
        <p:spPr>
          <a:xfrm>
            <a:off x="1828800" y="3886200"/>
            <a:ext cx="220968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n 27"/>
          <p:cNvSpPr/>
          <p:nvPr/>
        </p:nvSpPr>
        <p:spPr>
          <a:xfrm>
            <a:off x="5334120" y="220968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9"/>
          <p:cNvGrpSpPr/>
          <p:nvPr/>
        </p:nvGrpSpPr>
        <p:grpSpPr>
          <a:xfrm>
            <a:off x="1752480" y="4800240"/>
            <a:ext cx="1067040" cy="2057400"/>
            <a:chOff x="1752480" y="4800240"/>
            <a:chExt cx="1067040" cy="2057400"/>
          </a:xfrm>
        </p:grpSpPr>
        <p:sp>
          <p:nvSpPr>
            <p:cNvPr id="191" name="Rectangle 5"/>
            <p:cNvSpPr/>
            <p:nvPr/>
          </p:nvSpPr>
          <p:spPr>
            <a:xfrm rot="16200000">
              <a:off x="1714320" y="5371560"/>
              <a:ext cx="1143000" cy="10670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 rot="16200000">
              <a:off x="17139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16200000">
              <a:off x="240012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ight Arrow 31"/>
            <p:cNvSpPr/>
            <p:nvPr/>
          </p:nvSpPr>
          <p:spPr>
            <a:xfrm rot="16200000">
              <a:off x="2057400" y="4723920"/>
              <a:ext cx="685800" cy="83844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Explosion 1 38"/>
          <p:cNvSpPr/>
          <p:nvPr/>
        </p:nvSpPr>
        <p:spPr>
          <a:xfrm>
            <a:off x="2971800" y="1600200"/>
            <a:ext cx="1600200" cy="129528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ask Buil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40"/>
          <p:cNvSpPr/>
          <p:nvPr/>
        </p:nvSpPr>
        <p:spPr>
          <a:xfrm rot="17008200">
            <a:off x="2770200" y="2868120"/>
            <a:ext cx="1600200" cy="739800"/>
          </a:xfrm>
          <a:prstGeom prst="leftRightArrow">
            <a:avLst>
              <a:gd name="adj1" fmla="val 50000"/>
              <a:gd name="adj2" fmla="val 2067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Mitigations, Alternatie Remediations, &amp; Accept Risk based on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n 23"/>
          <p:cNvSpPr/>
          <p:nvPr/>
        </p:nvSpPr>
        <p:spPr>
          <a:xfrm>
            <a:off x="380880" y="266688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n 33"/>
          <p:cNvSpPr/>
          <p:nvPr/>
        </p:nvSpPr>
        <p:spPr>
          <a:xfrm>
            <a:off x="380880" y="1600200"/>
            <a:ext cx="129564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&amp;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-Right Arrow 40"/>
          <p:cNvSpPr/>
          <p:nvPr/>
        </p:nvSpPr>
        <p:spPr>
          <a:xfrm rot="460200">
            <a:off x="1512360" y="1947600"/>
            <a:ext cx="1819440" cy="436320"/>
          </a:xfrm>
          <a:prstGeom prst="leftRightArrow">
            <a:avLst>
              <a:gd name="adj1" fmla="val 50000"/>
              <a:gd name="adj2" fmla="val 39866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Locate devices in groups to determine applicabl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-Right Arrow 40"/>
          <p:cNvSpPr/>
          <p:nvPr/>
        </p:nvSpPr>
        <p:spPr>
          <a:xfrm rot="20306400">
            <a:off x="1512720" y="2643120"/>
            <a:ext cx="1981440" cy="436680"/>
          </a:xfrm>
          <a:prstGeom prst="leftRightArrow">
            <a:avLst>
              <a:gd name="adj1" fmla="val 50000"/>
              <a:gd name="adj2" fmla="val 3985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eive Policies for each device &amp; look up remedi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3048120" y="4800600"/>
            <a:ext cx="990360" cy="685800"/>
          </a:xfrm>
          <a:prstGeom prst="downArrow">
            <a:avLst>
              <a:gd name="adj1" fmla="val 68907"/>
              <a:gd name="adj2" fmla="val 32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s &amp; Mitig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eft-Right Arrow 40"/>
          <p:cNvSpPr/>
          <p:nvPr/>
        </p:nvSpPr>
        <p:spPr>
          <a:xfrm rot="957600">
            <a:off x="4038120" y="2437920"/>
            <a:ext cx="1447920" cy="436680"/>
          </a:xfrm>
          <a:prstGeom prst="leftRightArrow">
            <a:avLst>
              <a:gd name="adj1" fmla="val 50000"/>
              <a:gd name="adj2" fmla="val 3169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mediation Tasks Assigned to Too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xplosion 1 38"/>
          <p:cNvSpPr/>
          <p:nvPr/>
        </p:nvSpPr>
        <p:spPr>
          <a:xfrm>
            <a:off x="5257800" y="3809880"/>
            <a:ext cx="1600200" cy="129564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Workflow Mana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eft-Right Arrow 40"/>
          <p:cNvSpPr/>
          <p:nvPr/>
        </p:nvSpPr>
        <p:spPr>
          <a:xfrm rot="16483800">
            <a:off x="52012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New Taskings Retreiv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40"/>
          <p:cNvSpPr/>
          <p:nvPr/>
        </p:nvSpPr>
        <p:spPr>
          <a:xfrm rot="20763600">
            <a:off x="6400800" y="3962520"/>
            <a:ext cx="1066680" cy="436320"/>
          </a:xfrm>
          <a:prstGeom prst="leftRightArrow">
            <a:avLst>
              <a:gd name="adj1" fmla="val 50000"/>
              <a:gd name="adj2" fmla="val 2337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Tasks Assigned for Public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eft-Right Arrow 40"/>
          <p:cNvSpPr/>
          <p:nvPr/>
        </p:nvSpPr>
        <p:spPr>
          <a:xfrm rot="1420800">
            <a:off x="5866920" y="4952880"/>
            <a:ext cx="1676520" cy="43668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Provided for Processing &amp; Displa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-Right Arrow 40"/>
          <p:cNvSpPr/>
          <p:nvPr/>
        </p:nvSpPr>
        <p:spPr>
          <a:xfrm rot="16483800">
            <a:off x="56584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Stor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port Remediation and Risk Acceptance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6765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55308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7057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731520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6"/>
          <p:cNvSpPr/>
          <p:nvPr/>
        </p:nvSpPr>
        <p:spPr>
          <a:xfrm>
            <a:off x="5410080" y="3886200"/>
            <a:ext cx="221004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5334120" y="4800240"/>
            <a:ext cx="1066680" cy="2057400"/>
            <a:chOff x="5334120" y="4800240"/>
            <a:chExt cx="1066680" cy="2057400"/>
          </a:xfrm>
        </p:grpSpPr>
        <p:sp>
          <p:nvSpPr>
            <p:cNvPr id="215" name="Rectangle 5"/>
            <p:cNvSpPr/>
            <p:nvPr/>
          </p:nvSpPr>
          <p:spPr>
            <a:xfrm rot="16200000">
              <a:off x="5295960" y="5371920"/>
              <a:ext cx="1143000" cy="10666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 rot="16200000">
              <a:off x="529560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 rot="16200000">
              <a:off x="59817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ight Arrow 31"/>
            <p:cNvSpPr/>
            <p:nvPr/>
          </p:nvSpPr>
          <p:spPr>
            <a:xfrm rot="16200000">
              <a:off x="5638680" y="4723920"/>
              <a:ext cx="685800" cy="83808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Can 25"/>
          <p:cNvSpPr/>
          <p:nvPr/>
        </p:nvSpPr>
        <p:spPr>
          <a:xfrm>
            <a:off x="533520" y="4648320"/>
            <a:ext cx="121896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n 24"/>
          <p:cNvSpPr/>
          <p:nvPr/>
        </p:nvSpPr>
        <p:spPr>
          <a:xfrm>
            <a:off x="533520" y="3733920"/>
            <a:ext cx="121896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477120" y="4724280"/>
            <a:ext cx="1295280" cy="762120"/>
          </a:xfrm>
          <a:prstGeom prst="downArrow">
            <a:avLst>
              <a:gd name="adj1" fmla="val 83824"/>
              <a:gd name="adj2" fmla="val 32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 Mitigations/ Exceptions &amp; Remediation Failur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38"/>
          <p:cNvSpPr/>
          <p:nvPr/>
        </p:nvSpPr>
        <p:spPr>
          <a:xfrm>
            <a:off x="2438280" y="1523880"/>
            <a:ext cx="1752840" cy="236232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tigation and Exception Reporting 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-Right Arrow 40"/>
          <p:cNvSpPr/>
          <p:nvPr/>
        </p:nvSpPr>
        <p:spPr>
          <a:xfrm rot="1581000">
            <a:off x="3429000" y="3733920"/>
            <a:ext cx="2562120" cy="436320"/>
          </a:xfrm>
          <a:prstGeom prst="leftRightArrow">
            <a:avLst>
              <a:gd name="adj1" fmla="val 50000"/>
              <a:gd name="adj2" fmla="val 5613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Provide Mitigation and Exception Documentation to Unremediated Non-compliant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eft-Right Arrow 40"/>
          <p:cNvSpPr/>
          <p:nvPr/>
        </p:nvSpPr>
        <p:spPr>
          <a:xfrm rot="19075200">
            <a:off x="914400" y="4038120"/>
            <a:ext cx="2562120" cy="436680"/>
          </a:xfrm>
          <a:prstGeom prst="leftRightArrow">
            <a:avLst>
              <a:gd name="adj1" fmla="val 50000"/>
              <a:gd name="adj2" fmla="val 5609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Exception and Mitigation Detai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n 27"/>
          <p:cNvSpPr/>
          <p:nvPr/>
        </p:nvSpPr>
        <p:spPr>
          <a:xfrm>
            <a:off x="5791320" y="205740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-Right Arrow 40"/>
          <p:cNvSpPr/>
          <p:nvPr/>
        </p:nvSpPr>
        <p:spPr>
          <a:xfrm rot="21008400">
            <a:off x="3728520" y="2284560"/>
            <a:ext cx="2210040" cy="838080"/>
          </a:xfrm>
          <a:prstGeom prst="leftRightArrow">
            <a:avLst>
              <a:gd name="adj1" fmla="val 50000"/>
              <a:gd name="adj2" fmla="val 2521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Completed Mitigation Tasks and Incomplete Remediation Task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3:29:36Z</dcterms:created>
  <dc:creator>.</dc:creator>
  <dc:description/>
  <dc:language>en-US</dc:language>
  <cp:lastModifiedBy>sboczeno</cp:lastModifiedBy>
  <dcterms:modified xsi:type="dcterms:W3CDTF">2010-07-07T14:41:1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Dissemination">
    <vt:lpwstr>FOR OFFICIAL USE ONLY</vt:lpwstr>
  </property>
</Properties>
</file>